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9974-C422-4A90-B835-91CF8ADF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A11-F5B2-42E2-A328-D2F3DAAF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508-610D-4010-8DD5-BD34ABFE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1FD-6D4D-4DFB-9BF9-0F9B4076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49A-E280-4248-B9C0-0F5CC99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8C17-FE41-4727-BCCB-D2A40338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DB8-878E-409D-B39B-9758E74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059-18F9-40AF-863F-C3619989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7198-AB4B-4125-9382-2C23E4A7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685-30E4-416F-93DD-402371A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13B2-3C9C-4B43-A793-7EF4B08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2F4-0111-4906-A740-6223732F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375B-A85D-4ADF-B23A-03830410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C29A-D39D-4B5A-9781-065FD95A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866C-5D88-4856-A2BD-4A2F1FA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EA37-F7A2-45D9-A023-C89128D1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7956-23B7-41FD-8E95-30D5AF5A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EF4-D610-4DF1-A10B-7E8405A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D8E7-16AF-421C-A122-436339D0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207-E7D1-4AFB-A714-40082E8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920-FBEC-4004-B6E3-FC3E4E96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6C8-884A-4E1D-B842-951556F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F04-6239-4FEC-9288-5F87DA6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27F-FA64-419A-884B-5191317C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ABEF-65CF-4EE9-9E2F-CB3891ADA5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7A4E-4ECC-4F9C-A2FC-920317871B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openref.com/polygon.html" TargetMode="External"/><Relationship Id="rId2" Type="http://schemas.openxmlformats.org/officeDocument/2006/relationships/hyperlink" Target="http://www.mathopenref.com/polygoninteriorangles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34858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s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gruen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wo shapes are congruent if they are the same (shape and size)- in other words, if the lengths of the sides and the angles are the same. It is often useful to know when two triangles are congruent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it mean for polygons to be congru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Polygons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are congruent when they have the same number of sides, and all corresponding sides and </a:t>
            </a: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interior angles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are congruent. The polygons will have the same shape and size, but one may be a rotated, or be the mirror image of the oth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gruent triang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Two congruent triangles"/>
          <p:cNvPicPr/>
          <p:nvPr/>
        </p:nvPicPr>
        <p:blipFill>
          <a:blip r:embed="rId1"/>
          <a:stretch/>
        </p:blipFill>
        <p:spPr>
          <a:xfrm>
            <a:off x="1371600" y="2389320"/>
            <a:ext cx="59436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5 shortcu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ive shortcuts to determining if triangles are congruent are AAS, SSS, AAA, SAS, AS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 Assume SAS and prove ASA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EDF, angle B=angle E, and AB=DE (Note that I am using=to mean "congruent"). Prove that the two triangles are congruent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f BC=EF, then the two triangles are congruent, by SAS. So, assume that BC not=EF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re is a point G, on EF (perhaps extended), on the same side of the line DE, so that EG=BC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iangle ABC=triangle DEG [by SAS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ngle EDF=angle EDG [definition of congruent triangles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DF and DG are the same line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F and EF intersect at both F and G. So, F &amp; G are the same point [two distinct lines intersect in only one point]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EF=EG=BC, which contradicts our assumption that BC not=EF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o BC=EF, and the triangles are congruent by SAS, as mentioned in step #1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152280"/>
            <a:ext cx="3657600" cy="14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Assume ASA and prove SA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D, AB=DE, and AC=DF. Prove that the two triangles are congru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f angle B=angle DEF, then the two triangles are congruent, by ASA. So, assume that angle B not=angle DEF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raw a line EG, so that angle DEG=angle B (with G on the same side of DE as F)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G intersects line DEF (perhaps extended) at some point H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iangle ABC=triangle DEG [ASA]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C=DH [definition of congruent triangles]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H=DF [both=AC]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 and F are the same point. And EH and EF are the same line. And angle DEG and angle DEF are the same angle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at contradicts our assumption that angle B not=angle DEF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 angle B=angle DEF, and the 2 triangles are congruent by ASA, as mentioned in step #1.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26744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Assume SSS and prove S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e have two triangles, as shown in the diagram. Angle A=angle EDF, AB=DE, and AC=DF. Prove that the two triangles are congruen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f BC=EF, then the two triangles are congruent, by SSS. So, assume that BC not=EF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nd the point G (on the same side of line DE as F is) so that DF=DG and BC=EG. We do this by drawing arcs of those radii and finding where they intersect, if they do intersec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riangle ABC=triangle DEG [SSS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gle A=angle EDG [definition of congruence of triangles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gle EDG=angle EDF [both=angle A]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, they are the same angle. And F and G are the same point. And EF=BC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ontradicts our assumption that BC not=EF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 BC=EF, and the triangles are congruent by SSS, as mentioned in step #1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4038480" cy="15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9:27Z</dcterms:created>
  <dc:creator>010555</dc:creator>
  <dc:description/>
  <dc:language>en-US</dc:language>
  <cp:lastModifiedBy>010555</cp:lastModifiedBy>
  <dcterms:modified xsi:type="dcterms:W3CDTF">2008-04-24T16:47:50Z</dcterms:modified>
  <cp:revision>3</cp:revision>
  <dc:subject/>
  <dc:title>Triangles</dc:title>
</cp:coreProperties>
</file>